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A02A-AFF5-4030-AA28-7411879AB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BC68-B2F5-4548-96AE-01C56FA9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3C84-89EC-4C4D-A41B-C3958D9E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18EA-BAE2-4761-B1A4-4C674B9CC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64A2-4404-471D-A05C-12E44F22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F213-7AEE-4819-9058-50B4ED78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9627-97CB-4897-A5BD-D60F2162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620F-F827-4B3D-A93F-E88E8C75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BC0D-0D83-4EB8-A4D7-D40AF36E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5F1A-2239-468F-909E-6D014E43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BBA5-DA2C-4571-9F35-EC2DA785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FE78-A61D-4761-8EBF-3ED8AF8A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416E-26D4-43E0-B1A5-F83D7FE20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G00343_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240" y="990360"/>
            <a:ext cx="3962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ud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•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cal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tioning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796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Font typeface="Wingdings" charset="2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ed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761760" y="1905120"/>
            <a:ext cx="609480" cy="6094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905120"/>
            <a:ext cx="609480" cy="6094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181480" y="1905120"/>
            <a:ext cx="609840" cy="6094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1905120"/>
            <a:ext cx="609840" cy="6094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03:05Z</dcterms:created>
  <dc:creator>Bafayad</dc:creator>
  <dc:description/>
  <dc:language>en-US</dc:language>
  <cp:lastModifiedBy>Bafayad</cp:lastModifiedBy>
  <dcterms:modified xsi:type="dcterms:W3CDTF">2004-05-01T15:44:15Z</dcterms:modified>
  <cp:revision>5</cp:revision>
  <dc:subject/>
  <dc:title>عرض تقديمي من PowerPoint</dc:title>
</cp:coreProperties>
</file>